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type.wav" ContentType="audio/x-wav"/>
  <Override PartName="/ppt/media/chimes.wav" ContentType="audio/x-wav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EA08-474B-481C-B743-E4510BA2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358-DE5D-4CB0-87F0-3CC82A56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1E321-4C76-465C-9EC2-809CC93F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AA367-E45E-4F10-86A5-C325D982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0D9C1-5B09-40C2-A50D-1AB94EA5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3C193-67BB-4272-8556-D9D985CD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6FA45-80CE-40B4-885D-068CDCAD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44935-9971-4DF5-B892-D868E1EB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D3E38-6EEA-4472-AB49-A2760B6F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8ECFD-94AF-4FF8-B583-F3557ABF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338A6-4058-44F3-8A33-8D5F6F3F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37626-0573-423E-B617-B2E82AD6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405-FB3D-4C25-9C83-BA647713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A021F-6CA9-49B2-977D-218CFB12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3B33B-5728-416A-9524-7D09D7B8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6A362-B564-4930-8A50-B1D6B096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62D2C-64D8-43FF-9D04-F88BD061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44027-E2FA-4C6C-9323-56CEEB29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1E88D-DF6D-4F4B-A8E2-960C8743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4B8C0-1B1A-42BB-B76B-D8EDE392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77580-637D-424C-8C40-DBAFC55F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E2CD7-D6C7-4B84-9730-60A65094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281BA-F9DF-4230-ADBD-10B8DBAB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B325-8A9A-4129-8B59-A3A4F7C4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832F0-EE2A-4796-9DC4-CA5AFB51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1ABD7-BAD1-41C0-B192-390DF47C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D2712-E2A7-4731-9C62-72BD7E2D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474B2-3CA2-4E3D-8C1D-20669D37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C0636-7B53-4EE2-9970-CAFA5815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D5BA5-D798-4DC2-9949-EFE19124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C63D3-1468-4E71-A20E-30496066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46A49-1567-4668-9FAC-E42BA9F6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EEEC6-4532-425F-923B-8FCEF09D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958EA-5C65-4066-9B6D-C8F0A637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EC07-5FB9-463F-9DD7-D8734D55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67C44-BF67-4E7E-A2CB-42DAE3CA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5ABF0-1D00-452F-8581-0ECF137D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E632A-F143-4DA1-8AD7-2B2297D3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75781-58A8-46CB-8FA3-8192FE08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1361C-B6AE-4CFE-9914-8268AFF7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26362-EBAE-40F8-A0A8-3B557FDC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DC7EB-56A3-4DB4-A535-92A15A65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0070F-FE25-4F4B-AB36-350AB328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CEE19-9DB9-49B1-9E1B-229D071B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3EBFE-AC49-49E6-9B42-4434C990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9F64-7E92-40E3-8593-E6112F7E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C33C2-10EA-4E7E-B59A-A7384509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CEA70-EB5E-4EF2-B5F4-025423AA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D566A-2085-4FB4-A5D0-1D7ECA30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5C141-E227-4BBB-AC92-AE1D7EBC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6D18C-ECD8-4462-900D-4C3F345B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F3D9-826A-423F-8AB7-1900059F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E008-E646-441B-847A-34AAB469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2198-8FF9-4F11-99F2-69A9FF20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5ECA-5E2A-4601-AC5D-B0273825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EFD2-439E-4448-8F80-BD7DFC05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192-35E1-4732-98D3-40E2CBC6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7B05-91F3-4B1E-9395-37FF9176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D2F6-DE4C-4CE4-A587-94D966F6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2FB0-FA46-4106-8630-BF0CED4A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188F-6F81-4B6A-AFC6-B9C090D0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4178-26BF-4645-9834-4C49A91A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831A9-80CE-4FFD-A1C0-66242F50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0C3AE-6614-4617-8518-DB03CB0F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4EEB7-1BB8-417E-B455-13DF16F5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C2AC6-87AE-4E0D-A5DE-F2038312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79CA4-9986-46BB-9B28-DE95BB6C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F84-526B-426C-AAC8-0A952094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FC4AB-B322-4E2D-B7AC-72089A76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AE551-B150-42E9-91F2-0E7F39C2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FE7AB-1532-49B9-ACE1-0102CB92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9AB95-2D5A-4A04-A519-753FCA7A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E3AE0-DEF8-4599-A893-69665550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BBC85-D75C-4E0F-A052-AE27AB0C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1E3E4-D0BA-4086-A881-3080C533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F9283-FA32-4282-8640-B49A4C9C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55F7C-69C2-4579-B420-90755DBA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F6899-6546-474B-B0E3-76D48BE8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7E84-7F0C-4170-B5CE-95F4D045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5E7AC-B184-4E8B-9E1D-48EA2006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3CD93-6226-4A96-9445-4F7A93ED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F3A87-4B35-4DC4-8DBE-77BD04FB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DB136-C476-4496-AE15-855B2A6B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70FDB-212C-4614-BDE3-B8449A2B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3D0C5-26E2-44B1-A099-33A88D84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E77D2-9D9C-443A-BFF8-2CD3B72A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6BC92-2F15-435C-A85E-7B3D5943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47C43-FE15-4993-B678-7F7E6894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01D71-64C5-416B-9EEF-3A2D1EE7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C60-9872-4C17-998E-44D3F43E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BFBEA-DF9C-4B05-83A5-EDD6CE55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C3714-CB0B-4B64-8B4B-9165FC96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C9501-BD81-493A-841A-A823792B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E107A-FF72-43FD-8B34-2C8053C0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2ED0B-23D4-4B23-AEB0-FAE4C792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9BE8F-7CEE-4686-8E4C-DF0257D7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E3E6F-7D80-4A74-BE42-E66BFABB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B3C9B-599D-4013-A6CF-805265B5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8F1A3-34BA-4542-B9A6-3942302A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B5E0E-DA9B-49E4-8A6D-31C739AE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76B-F29A-41D8-9717-DA799D21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EFE86-6D21-4A63-B749-5F0072F7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F16CA-8EF7-4BC8-A7BB-748FA199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B3EB3-8825-41D0-9976-7C4194A1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B60EB-64CB-427F-9257-03EC3475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60049-63A5-4413-892C-494B1EB2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A6B03-B314-49DA-B367-2E4D1E1A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FFE8A-90EE-496B-A639-45B6A658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EDD3D-E163-41E7-95EF-C586FFAD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BC2CA-158D-4E20-A4EC-6510F6FA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42E7D-573D-4A25-8161-494248A0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D67-5D54-4C50-B61A-0034ED9B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A2D7B-49C2-4078-8154-495B7432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1B568-CD9E-4F07-B065-83A5BB86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133D6-DAF0-4834-A502-2C4A005B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2618C-0521-4F72-AF76-61BAFA59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E8A04-4A56-4AC2-8113-42E69061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F9367-2B35-4F21-AAFF-E86BD7F8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4B0A1-2013-4BCA-B332-CB38818E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9C271-8A7F-44D7-BA43-6ECFD432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BF193-5F8B-4F7A-8509-8DE26232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C0542-15C2-42F6-8851-2A16094C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00B-5655-4647-B7CB-78E4235C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8F4B1-816F-4CB4-8BCF-C89EF094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B1B70-AA61-44D9-9AFD-E31F88E6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47029-AFF6-4400-B24B-38264A66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A1770-ED20-441C-AFEF-6DE788E0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736D5-5866-49DB-904B-B1B79889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00BED-A7C5-48A0-BEA1-3816B125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F42BA-89EA-453A-A8DA-E3E55687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421F2-2F22-46D4-AC71-B2DCFA4F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E0209-A357-4A61-AFA8-FFC0A2CA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A1BD5-6B65-4720-ACDB-F58ED845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8DF-1B3F-490C-9046-85BF7074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D4B41-AB1E-42ED-957A-F7640262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6641D-E17E-42D4-97A9-6B34F3EA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FDECF-B515-4F76-B9AF-5BA34ADA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287FC-AB41-4549-BA00-972E6350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C7B6A-2876-4F86-93E1-73DD8AB3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3283C-623D-4580-8D0A-04CF2436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77E5D-9512-4AD4-8C12-C7C69B5E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6B2DF-BA3E-43A5-9E8B-34B9EA75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66947-799F-4F24-8BD3-85D2DAD0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E5970-E6B3-4864-B644-20D3886F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1BDB-3E1A-4A9A-89DA-25621BB2B3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DD95-A46A-460C-9A20-3B84014ED47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AD50-C669-4298-9E11-BACC07FFD06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FD84-7AE2-4CCE-9A07-80410ADEFF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454A-421A-465B-A21D-2E21DF4913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F5EF-812B-4141-8B49-0253E2EC384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8030-573E-444D-AF9B-A704A0BD93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4181-B2F7-455E-A5A0-615E83B716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A4EC-161B-4FF9-B311-0F6998221A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759D-BAC9-43EC-A142-14AF614813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A57A-29D4-4A8B-9B29-28ED968A6F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CF5F-8B10-44E9-A9C1-ED8A13AAC5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 Box 5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1992240"/>
          </a:xfrm>
          <a:prstGeom prst="rect">
            <a:avLst/>
          </a:prstGeom>
          <a:ln w="0">
            <a:noFill/>
          </a:ln>
        </p:spPr>
      </p:pic>
      <p:pic>
        <p:nvPicPr>
          <p:cNvPr id="505" name="Text Box 5" descr=""/>
          <p:cNvPicPr/>
          <p:nvPr/>
        </p:nvPicPr>
        <p:blipFill>
          <a:blip r:embed="rId2"/>
          <a:stretch/>
        </p:blipFill>
        <p:spPr>
          <a:xfrm>
            <a:off x="0" y="3975120"/>
            <a:ext cx="9144000" cy="993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TextBox 1" descr=""/>
          <p:cNvPicPr/>
          <p:nvPr/>
        </p:nvPicPr>
        <p:blipFill>
          <a:blip r:embed="rId1"/>
          <a:stretch/>
        </p:blipFill>
        <p:spPr>
          <a:xfrm>
            <a:off x="1182600" y="176040"/>
            <a:ext cx="3316320" cy="615960"/>
          </a:xfrm>
          <a:prstGeom prst="rect">
            <a:avLst/>
          </a:prstGeom>
          <a:ln w="0">
            <a:noFill/>
          </a:ln>
        </p:spPr>
      </p:pic>
      <p:sp>
        <p:nvSpPr>
          <p:cNvPr id="507" name="TextBox 1"/>
          <p:cNvSpPr/>
          <p:nvPr/>
        </p:nvSpPr>
        <p:spPr>
          <a:xfrm>
            <a:off x="1324800" y="1163520"/>
            <a:ext cx="641808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某电子厂商投产一种新型电子产品，每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制造成本为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，试销过程中发现，每月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售量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万件）与销售单价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元）之间的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系可以看做一次函数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y=-2x+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利润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售价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制造成本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写出每月的利润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w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万元）与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间的函数表达式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当销售单价为多少元时，厂商每月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获得最大利润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最大利润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TextBox 1" descr=""/>
          <p:cNvPicPr/>
          <p:nvPr/>
        </p:nvPicPr>
        <p:blipFill>
          <a:blip r:embed="rId1"/>
          <a:stretch/>
        </p:blipFill>
        <p:spPr>
          <a:xfrm>
            <a:off x="1182600" y="176040"/>
            <a:ext cx="3316320" cy="615960"/>
          </a:xfrm>
          <a:prstGeom prst="rect">
            <a:avLst/>
          </a:prstGeom>
          <a:ln w="0">
            <a:noFill/>
          </a:ln>
        </p:spPr>
      </p:pic>
      <p:sp>
        <p:nvSpPr>
          <p:cNvPr id="509" name="TextBox 1"/>
          <p:cNvSpPr/>
          <p:nvPr/>
        </p:nvSpPr>
        <p:spPr>
          <a:xfrm>
            <a:off x="1596240" y="1341360"/>
            <a:ext cx="620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某网店以每件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的价格购进一批商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若以单价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8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销售，每月可售出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调查表明：单价每上涨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，该商品每月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销量就减少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请写出每月销售该商品的利润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单价上涨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(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）间的函数表达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请写出每月销售该商品的利润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定价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a(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）间的函数表达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1"/>
          <p:cNvSpPr/>
          <p:nvPr/>
        </p:nvSpPr>
        <p:spPr>
          <a:xfrm>
            <a:off x="786960" y="476280"/>
            <a:ext cx="5235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4 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如图，已知边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正方形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在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边上有一动点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连接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AE,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作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EF⊥A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交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边于点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(1)CF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长可能等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(2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点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在什么位置时，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CF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长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对象 3" descr=""/>
          <p:cNvPicPr/>
          <p:nvPr/>
        </p:nvPicPr>
        <p:blipFill>
          <a:blip r:embed="rId1"/>
          <a:stretch/>
        </p:blipFill>
        <p:spPr>
          <a:xfrm>
            <a:off x="6870600" y="4565520"/>
            <a:ext cx="936720" cy="1978200"/>
          </a:xfrm>
          <a:prstGeom prst="rect">
            <a:avLst/>
          </a:prstGeom>
          <a:ln w="0">
            <a:noFill/>
          </a:ln>
        </p:spPr>
      </p:pic>
      <p:pic>
        <p:nvPicPr>
          <p:cNvPr id="512" name="对象 4" descr=""/>
          <p:cNvPicPr/>
          <p:nvPr/>
        </p:nvPicPr>
        <p:blipFill>
          <a:blip r:embed="rId2"/>
          <a:stretch/>
        </p:blipFill>
        <p:spPr>
          <a:xfrm>
            <a:off x="3924360" y="3429000"/>
            <a:ext cx="950760" cy="1500120"/>
          </a:xfrm>
          <a:prstGeom prst="rect">
            <a:avLst/>
          </a:prstGeom>
          <a:ln w="0">
            <a:noFill/>
          </a:ln>
        </p:spPr>
      </p:pic>
      <p:sp>
        <p:nvSpPr>
          <p:cNvPr id="513" name="矩形 5"/>
          <p:cNvSpPr/>
          <p:nvPr/>
        </p:nvSpPr>
        <p:spPr>
          <a:xfrm>
            <a:off x="5796000" y="1413000"/>
            <a:ext cx="2521080" cy="2447640"/>
          </a:xfrm>
          <a:prstGeom prst="rect">
            <a:avLst/>
          </a:prstGeom>
          <a:solidFill>
            <a:srgbClr val="fffff7"/>
          </a:solidFill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直接连接符 7"/>
          <p:cNvSpPr/>
          <p:nvPr/>
        </p:nvSpPr>
        <p:spPr>
          <a:xfrm>
            <a:off x="5796000" y="1413000"/>
            <a:ext cx="792000" cy="2447640"/>
          </a:xfrm>
          <a:prstGeom prst="line">
            <a:avLst/>
          </a:prstGeom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直接连接符 9"/>
          <p:cNvSpPr/>
          <p:nvPr/>
        </p:nvSpPr>
        <p:spPr>
          <a:xfrm flipV="1">
            <a:off x="6588000" y="3212640"/>
            <a:ext cx="1729080" cy="647640"/>
          </a:xfrm>
          <a:prstGeom prst="line">
            <a:avLst/>
          </a:prstGeom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0"/>
          <p:cNvSpPr/>
          <p:nvPr/>
        </p:nvSpPr>
        <p:spPr>
          <a:xfrm>
            <a:off x="5281200" y="1089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1"/>
          <p:cNvSpPr/>
          <p:nvPr/>
        </p:nvSpPr>
        <p:spPr>
          <a:xfrm>
            <a:off x="8368920" y="1098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2"/>
          <p:cNvSpPr/>
          <p:nvPr/>
        </p:nvSpPr>
        <p:spPr>
          <a:xfrm>
            <a:off x="8399160" y="3726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5292720" y="367524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4"/>
          <p:cNvSpPr/>
          <p:nvPr/>
        </p:nvSpPr>
        <p:spPr>
          <a:xfrm>
            <a:off x="6381720" y="3924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5"/>
          <p:cNvSpPr/>
          <p:nvPr/>
        </p:nvSpPr>
        <p:spPr>
          <a:xfrm>
            <a:off x="8450640" y="288936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TextBox 1" descr=""/>
          <p:cNvPicPr/>
          <p:nvPr/>
        </p:nvPicPr>
        <p:blipFill>
          <a:blip r:embed="rId1"/>
          <a:stretch/>
        </p:blipFill>
        <p:spPr>
          <a:xfrm>
            <a:off x="1182600" y="176040"/>
            <a:ext cx="3316320" cy="61596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3"/>
          <p:cNvSpPr/>
          <p:nvPr/>
        </p:nvSpPr>
        <p:spPr>
          <a:xfrm>
            <a:off x="1066680" y="1143000"/>
            <a:ext cx="579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黑体"/>
              </a:rPr>
              <a:t>二次函数应用的解题思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45720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宋体"/>
              </a:rPr>
              <a:t>回顾本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dc5900"/>
                </a:solidFill>
                <a:latin typeface="隶书"/>
                <a:ea typeface="宋体"/>
              </a:rPr>
              <a:t>最大利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dc5900"/>
                </a:solidFill>
                <a:latin typeface="隶书"/>
                <a:ea typeface="宋体"/>
              </a:rPr>
              <a:t>最大面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宋体"/>
              </a:rPr>
              <a:t>解决问题的过程，你能总结一下解决此类问题的</a:t>
            </a:r>
            <a:r>
              <a:rPr b="1" lang="zh-CN" sz="2800" spc="-1" strike="noStrike">
                <a:solidFill>
                  <a:srgbClr val="7979a5"/>
                </a:solidFill>
                <a:latin typeface="隶书"/>
                <a:ea typeface="宋体"/>
              </a:rPr>
              <a:t>基本思路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宋体"/>
              </a:rPr>
              <a:t>吗？与同伴交流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"/>
          <p:cNvSpPr/>
          <p:nvPr/>
        </p:nvSpPr>
        <p:spPr>
          <a:xfrm>
            <a:off x="457200" y="35053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理解问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8"/>
          <p:cNvSpPr/>
          <p:nvPr/>
        </p:nvSpPr>
        <p:spPr>
          <a:xfrm>
            <a:off x="457200" y="40384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析问题中的变量和常量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以及它们之间的关系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9"/>
          <p:cNvSpPr/>
          <p:nvPr/>
        </p:nvSpPr>
        <p:spPr>
          <a:xfrm>
            <a:off x="457200" y="46483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用数学的方式表示出它们之间的关系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0"/>
          <p:cNvSpPr/>
          <p:nvPr/>
        </p:nvSpPr>
        <p:spPr>
          <a:xfrm>
            <a:off x="457200" y="525780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做数学求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1"/>
          <p:cNvSpPr/>
          <p:nvPr/>
        </p:nvSpPr>
        <p:spPr>
          <a:xfrm>
            <a:off x="457200" y="57913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检验结果的合理性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拓展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7:26:15Z</dcterms:created>
  <dc:creator>lijunhua</dc:creator>
  <dc:description/>
  <dc:language>en-US</dc:language>
  <cp:lastModifiedBy>Administrator</cp:lastModifiedBy>
  <dcterms:modified xsi:type="dcterms:W3CDTF">2018-12-29T07:26:39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